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73B-0BC8-4B76-9A52-56E3955F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04C-0A24-46E3-B39C-1274572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6F2-CC7C-486D-AB1C-87A5A90A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C5F-39A5-4B7C-89D7-5727B123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C0F-1D0E-4759-AF2C-B5E5E2D9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3B8-B80A-443B-A6C1-608E0359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41B-760C-45A2-8112-809F0FC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0E3-8633-46B9-A74C-1AB8445C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A52-49E5-488A-AD3E-45BBE1AA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9B7-62E2-4BF4-BB73-045A5E9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7AC-41EE-4F12-8AAF-06C7AF3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1F3-F6FB-4A8D-9FB3-9467D28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C70-B3EF-4680-BC55-2135C3AE1E00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992" y="1854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485520" y="10398600"/>
            <a:ext cx="19475640" cy="16499880"/>
            <a:chOff x="12485520" y="10398600"/>
            <a:chExt cx="19475640" cy="1649988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858560"/>
              <a:ext cx="3813480" cy="35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4462280" y="10398600"/>
              <a:ext cx="17498880" cy="16499880"/>
              <a:chOff x="14462280" y="10398600"/>
              <a:chExt cx="17498880" cy="1649988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436480"/>
                <a:ext cx="11141280" cy="154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508320" y="19964520"/>
                <a:ext cx="4452840" cy="49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34872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20944800">
                <a:off x="25795440" y="23850720"/>
                <a:ext cx="361764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19916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07960"/>
                <a:ext cx="5529240" cy="9079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33612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0984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132400"/>
                <a:ext cx="361656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1061388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86660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0692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360" y="1691964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 flipV="1">
                <a:off x="26669880" y="24383880"/>
                <a:ext cx="1905120" cy="400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82848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110276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34720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670600"/>
                <a:ext cx="2349360" cy="2030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197576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1220480"/>
            <a:ext cx="11810880" cy="6229440"/>
            <a:chOff x="31775400" y="1122048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1220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944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335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430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1263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968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346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416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2196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3034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354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3604200" y="25526880"/>
            <a:ext cx="85597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33520" y="775332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ge’s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al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149353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22974480"/>
            <a:ext cx="12725640" cy="84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&amp; equipment should be integrated with the proces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quipment shoul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3299280" y="4952880"/>
            <a:ext cx="9982440" cy="62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4" descr=""/>
          <p:cNvPicPr/>
          <p:nvPr/>
        </p:nvPicPr>
        <p:blipFill>
          <a:blip r:embed="rId14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4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9"/>
          <p:cNvSpPr/>
          <p:nvPr/>
        </p:nvSpPr>
        <p:spPr>
          <a:xfrm>
            <a:off x="34366320" y="174038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1"/>
          <p:cNvSpPr/>
          <p:nvPr/>
        </p:nvSpPr>
        <p:spPr>
          <a:xfrm>
            <a:off x="38099880" y="17602200"/>
            <a:ext cx="53352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32994720" y="17983080"/>
            <a:ext cx="9982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9"/>
          <p:cNvSpPr/>
          <p:nvPr/>
        </p:nvSpPr>
        <p:spPr>
          <a:xfrm>
            <a:off x="37814400" y="174038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34670880" y="1760220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32156280" y="31470480"/>
            <a:ext cx="11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mote Monitoring of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5"/>
          <a:srcRect l="1199" t="0" r="3594" b="0"/>
          <a:stretch/>
        </p:blipFill>
        <p:spPr>
          <a:xfrm>
            <a:off x="31775400" y="19243800"/>
            <a:ext cx="12115800" cy="75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Becky</cp:lastModifiedBy>
  <dcterms:modified xsi:type="dcterms:W3CDTF">2008-11-24T22:12:03Z</dcterms:modified>
  <cp:revision>47</cp:revision>
  <dc:subject/>
  <dc:title>Slide 1</dc:title>
</cp:coreProperties>
</file>